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A77-64FC-4383-86B2-7E518A2D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32F-7574-4715-A656-B2366A4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C45-8E3B-4187-97B7-AEE8B43F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9E7-DA87-4612-B4C7-F4F5B134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5A30-B6E9-4E37-B1B0-5E979748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13CA-BE4D-46E3-97D9-E9B6090E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F662-626F-4B2C-820B-8C711BE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8928-245F-4024-9998-793B1D4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200-ED37-4B03-B630-EC608D85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65AA-1B50-4626-8742-54048E6E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C403-2D56-4DE8-972B-04AC00F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7D7-1D79-474C-8219-E825681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4FF-94E0-42F6-B302-395D3E7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406-6E1B-46C4-BF2B-EE41E12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5E6D-0106-4A34-A8AA-9241D26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978-A926-4A51-9F4B-308FF619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556C-2FBA-406B-ABAD-FBB70693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B4B-2CFB-4961-8016-BE9CF576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940-325F-40EA-B150-AC45A3E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B4B-1017-47A8-A2E3-5087F0AC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82B-5F54-41AE-BD29-E87113F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CDC-D680-4EBA-BF0B-F34841B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808-07C7-46BD-8E8D-161FB4C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679-C30F-4874-8322-5DB0F89D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2C37-F881-4DD2-9CFC-1EEB3BBAA1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132D-01DF-47B7-9951-3258E9BD1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ОЦИЈАЛНИ МАРКЕТИН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ни маркетин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1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имена техника комерцијалног маркетинга за анализу, планирање, примену и евалуацију програма креираних да утичу на понашање циљане популације које ће допринети њиховом бољуитку и бољитку целог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2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Коришћење начела и техника маркетинга како би се утицало на циљану популацију да добровољно прихвати, одбаци, промени или напусти понашање за добробит појединца, заједнице или друштва у цел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звој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5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. Wibe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авио питање “Зашто се братство и рационално размишљање не би могли продавати као сапун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7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ви пут је употребљен термини “социјални маркетинг” у научном ра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приступ планираној социјалној 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Zaltm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89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Издата прва књиг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стратегија за мењање понашања друш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Rober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Одржана прва конференција у Енгле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страживање понашања потрошача / Анализа окру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имена сегментације и тарг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инисање циљева и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ришћење 4 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Произ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Комуник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Евалу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905120" y="1828800"/>
            <a:ext cx="48765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одел социјалног благос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590920" y="304812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и марке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666880" y="495288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е инов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7"/>
          <p:cNvSpPr/>
          <p:nvPr/>
        </p:nvSpPr>
        <p:spPr>
          <a:xfrm>
            <a:off x="4038480" y="2514600"/>
            <a:ext cx="60984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8"/>
          <p:cNvSpPr/>
          <p:nvPr/>
        </p:nvSpPr>
        <p:spPr>
          <a:xfrm>
            <a:off x="4114800" y="4419720"/>
            <a:ext cx="6094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9"/>
          <p:cNvSpPr/>
          <p:nvPr/>
        </p:nvSpPr>
        <p:spPr>
          <a:xfrm>
            <a:off x="228600" y="34290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10"/>
          <p:cNvSpPr/>
          <p:nvPr/>
        </p:nvSpPr>
        <p:spPr>
          <a:xfrm>
            <a:off x="228600" y="52578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04920" y="38098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а сегмен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019920" y="3809880"/>
            <a:ext cx="23619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и медиј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Комуникациони прог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04920" y="56386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жавне институ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276720" y="5638680"/>
            <a:ext cx="26668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уштвене/социјалне 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095880" y="5638680"/>
            <a:ext cx="228600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рме / Н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гративни 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2286000" y="1905120"/>
            <a:ext cx="4191120" cy="4038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2743200" y="2362320"/>
            <a:ext cx="3276720" cy="3200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3124080" y="2819520"/>
            <a:ext cx="2514600" cy="23619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3581280" y="3276720"/>
            <a:ext cx="1676520" cy="152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6413760" y="19810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енефит за ја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23"/>
          <p:cNvCxnSpPr/>
          <p:nvPr/>
        </p:nvCxnSpPr>
        <p:spPr>
          <a:xfrm flipV="1">
            <a:off x="4419360" y="2361960"/>
            <a:ext cx="19818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25"/>
          <p:cNvSpPr/>
          <p:nvPr/>
        </p:nvSpPr>
        <p:spPr>
          <a:xfrm>
            <a:off x="242280" y="1600200"/>
            <a:ext cx="22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Жељено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етермина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секве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26"/>
          <p:cNvCxnSpPr/>
          <p:nvPr/>
        </p:nvCxnSpPr>
        <p:spPr>
          <a:xfrm flipH="1" flipV="1">
            <a:off x="2057040" y="2285280"/>
            <a:ext cx="14486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8"/>
          <p:cNvSpPr/>
          <p:nvPr/>
        </p:nvSpPr>
        <p:spPr>
          <a:xfrm>
            <a:off x="167760" y="5181480"/>
            <a:ext cx="289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аркетинг м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изајн и карактерис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ошк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иступ и могућ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је и иску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29"/>
          <p:cNvCxnSpPr/>
          <p:nvPr/>
        </p:nvCxnSpPr>
        <p:spPr>
          <a:xfrm flipH="1">
            <a:off x="2133000" y="4647960"/>
            <a:ext cx="533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TextBox 31"/>
          <p:cNvSpPr/>
          <p:nvPr/>
        </p:nvSpPr>
        <p:spPr>
          <a:xfrm>
            <a:off x="6491520" y="4952880"/>
            <a:ext cx="244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штина: понашањ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извод и ус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р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леват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зицион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32"/>
          <p:cNvCxnSpPr/>
          <p:nvPr/>
        </p:nvCxnSpPr>
        <p:spPr>
          <a:xfrm>
            <a:off x="5791320" y="4267080"/>
            <a:ext cx="1296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бласти примене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моци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венција по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штита животне око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обилизација зајед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рекл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еми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ил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Музички спо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нтернет стра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-line </a:t>
            </a: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ac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sta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w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ap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znate li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včane na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1T05:33:27Z</dcterms:modified>
  <cp:revision>184</cp:revision>
  <dc:subject/>
  <dc:title>Soft and Hard Skills Development: A Current Situation in Serbian Companies</dc:title>
</cp:coreProperties>
</file>